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8E54-DBCC-4B91-8F73-2904FDD0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7C5E-626A-4A33-B7A4-CDB46B1E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D73-6572-4BF7-A5D8-12C76E629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100C-C306-4B9A-82B3-E2436025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4FFD-5FBA-484F-AD5C-0EBE4CD2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5A4B-73D6-4FE2-A4B3-D0FEEC89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3420-2411-4566-80B0-059DB5D5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8252-8FA1-4B5D-B953-7766E9EA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F459-D62C-44CA-B4CE-3A07B070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34F0-CE29-4E33-9B2B-A5A5D418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C7DC-1384-4650-9105-AE7956D2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F4AF-AECF-44BD-BCB0-D1BF9F2C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FBE3-FFE2-4D95-9A8D-A5C5D86C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9815-B70C-47D0-982E-83658DA2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3EA6-4F46-42F0-9623-FEB57B5D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CB36F-8A85-48FF-9526-41A59AAF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4D3D5-4CC4-45A2-B14A-AFD73D98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72E1A-8D2B-4217-850E-ECD5C723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1500C-ECEB-46FC-95A6-723A2BC2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9022F-6C0F-49FD-9662-C7A37DE6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EFF68-D114-41BA-B827-43B3B128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5C02C-1D24-4C98-AECB-DB0E5D20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6853-04CA-4BF7-8197-51085DEC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6A16A-AEC6-4BC4-BCB0-ED9C68FB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A7370-9DE0-4E20-BBF6-7E87804C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53B07-2B59-4423-B598-AF5068AB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28599-AB0B-446D-9F66-9A937BDD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797C0-BCE2-4C4C-8BE7-891BD054F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331E7-FA3B-4A29-9738-E0C57E50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0B7A9-0AAF-45FE-A83A-D2353374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2E9C6-7907-4702-9559-9875F8D0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B82C3-22CC-4FB0-894D-65BEE801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CB19C-68A5-45C6-9C18-B525D445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966F-B1C5-4C53-BE61-3996353B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5FA8F-B1CA-4266-950A-5F8A8D8D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0707B-F33F-479E-9515-4AE5E637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003DC-8CCA-4BCA-9FF6-693B8C66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7EAD8-E640-4934-B8BC-1DA46ED6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3CC37-5919-49EB-B148-0E999F6E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A3320-90C3-42FB-A6DE-188EA18E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4D9EA-E832-494D-834A-54170384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514DA-9086-4353-A844-1CA42D3A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98CA9-A01A-46CD-BDCB-56BA92D8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8BB9-346D-4000-98DB-507128EF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AB41-4F08-4F25-B989-FE3A6B94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4BEE-3CC0-4DDE-B705-5FECA471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6E8C-3EFA-4110-9441-0081E1EB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D203-82BE-4F75-87CE-06FE27AD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ffca08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fca0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ca0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8931d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6f0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fdf6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ca0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ffca0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ca08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ca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C124D-3504-4EDF-A20E-59175C96B8E4}" type="slidenum">
              <a:rPr b="0" lang="es-ES" sz="900" spc="-1" strike="noStrike">
                <a:solidFill>
                  <a:srgbClr val="ffca08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fca0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ca0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8931d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6f0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fdf6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ca0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ffca0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ffca08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ca08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ca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1BCC-83A3-4FA6-BBB9-2314C40A6E6E}" type="slidenum">
              <a:rPr b="0" lang="es-ES" sz="900" spc="-1" strike="noStrike">
                <a:solidFill>
                  <a:srgbClr val="ffca08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ffca08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fca0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ca0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8931d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6f0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fdf6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ca0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ffca0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df6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df6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ca08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ca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FE6F1-565E-4765-9898-D3516E8A6245}" type="slidenum">
              <a:rPr b="0" lang="es-ES" sz="900" spc="-1" strike="noStrike">
                <a:solidFill>
                  <a:srgbClr val="ffca08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ffca08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fca0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ca0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8931d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a6f0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ffdf6b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ca08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ffca08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df6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df6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ca08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ca08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ffca08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ffca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4723-CFB4-4FE0-8946-9FAE28C06162}" type="slidenum">
              <a:rPr b="0" lang="es-ES" sz="900" spc="-1" strike="noStrike">
                <a:solidFill>
                  <a:srgbClr val="ffca08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ángulo 1"/>
          <p:cNvSpPr/>
          <p:nvPr/>
        </p:nvSpPr>
        <p:spPr>
          <a:xfrm>
            <a:off x="395280" y="1773360"/>
            <a:ext cx="71294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7000" spc="-1" strike="noStrike">
                <a:solidFill>
                  <a:srgbClr val="000000"/>
                </a:solidFill>
                <a:latin typeface="Century Gothic"/>
              </a:rPr>
              <a:t>EL</a:t>
            </a:r>
            <a:r>
              <a:rPr b="0" lang="es-ES" sz="7200" spc="-1" strike="noStrike">
                <a:solidFill>
                  <a:srgbClr val="000000"/>
                </a:solidFill>
                <a:latin typeface="Century Gothic"/>
              </a:rPr>
              <a:t> GOZ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-DE LA- </a:t>
            </a:r>
            <a:r>
              <a:rPr b="1" lang="es-ES" sz="7200" spc="-1" strike="noStrike">
                <a:solidFill>
                  <a:srgbClr val="000000"/>
                </a:solidFill>
                <a:latin typeface="Andalus"/>
                <a:ea typeface="Andalus"/>
              </a:rPr>
              <a:t>COLABORACIÓN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ángulo 1"/>
          <p:cNvSpPr/>
          <p:nvPr/>
        </p:nvSpPr>
        <p:spPr>
          <a:xfrm>
            <a:off x="1258920" y="1989000"/>
            <a:ext cx="5905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espíritu de amor y abnegación de Cristo es el espíritu que llena los cielos y es la misma esencia de su glo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ángulo 1"/>
          <p:cNvSpPr/>
          <p:nvPr/>
        </p:nvSpPr>
        <p:spPr>
          <a:xfrm>
            <a:off x="1422360" y="2492280"/>
            <a:ext cx="610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los no sienten ni saben que están haciendo alguna cosa gra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ángulo 1"/>
          <p:cNvSpPr/>
          <p:nvPr/>
        </p:nvSpPr>
        <p:spPr>
          <a:xfrm>
            <a:off x="1206360" y="2724120"/>
            <a:ext cx="6245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o necesitan cargarse de ansiedad por el éxi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ángulo 1"/>
          <p:cNvSpPr/>
          <p:nvPr/>
        </p:nvSpPr>
        <p:spPr>
          <a:xfrm>
            <a:off x="1133640" y="2151000"/>
            <a:ext cx="624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ienen solamente que seguir adelante con tranquilidad, haciendo fielmente la obra que la providencia de Dios indique, y su vida no será inút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ángulo 1"/>
          <p:cNvSpPr/>
          <p:nvPr/>
        </p:nvSpPr>
        <p:spPr>
          <a:xfrm>
            <a:off x="1349280" y="2492280"/>
            <a:ext cx="603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us propias almas crecerán cada vez más a la semejanza de Cri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ángulo 1"/>
          <p:cNvSpPr/>
          <p:nvPr/>
        </p:nvSpPr>
        <p:spPr>
          <a:xfrm>
            <a:off x="826920" y="2421000"/>
            <a:ext cx="669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son colaboradores de Dios en esta vida, y así se están preparando para la obra más elevada y el gozo sin sombra de la vida venid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ángulo 1"/>
          <p:cNvSpPr/>
          <p:nvPr/>
        </p:nvSpPr>
        <p:spPr>
          <a:xfrm>
            <a:off x="1042920" y="2386080"/>
            <a:ext cx="631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te es el espíritu que poseerán los discípulos de Cristo, la obra que hará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ángulo 1"/>
          <p:cNvSpPr/>
          <p:nvPr/>
        </p:nvSpPr>
        <p:spPr>
          <a:xfrm>
            <a:off x="1042920" y="2205000"/>
            <a:ext cx="624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uando el amor de Cristo está guardado en el corazón, como dulce fragancia no puede oculta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ángulo 1"/>
          <p:cNvSpPr/>
          <p:nvPr/>
        </p:nvSpPr>
        <p:spPr>
          <a:xfrm>
            <a:off x="990720" y="2060640"/>
            <a:ext cx="653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u santa influencia será percibida por todos aquellos con quienes nos relacion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ángulo 1"/>
          <p:cNvSpPr/>
          <p:nvPr/>
        </p:nvSpPr>
        <p:spPr>
          <a:xfrm>
            <a:off x="1116000" y="2492280"/>
            <a:ext cx="63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espíritu de Cristo en el corazón es como un manantial en un desie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ángulo 1"/>
          <p:cNvSpPr/>
          <p:nvPr/>
        </p:nvSpPr>
        <p:spPr>
          <a:xfrm>
            <a:off x="990720" y="1916280"/>
            <a:ext cx="6389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que se derrama para refrescarlo todo y despertar, en los  que ya están por perecer, ansias de beber del agua de la vi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ángulo 1"/>
          <p:cNvSpPr/>
          <p:nvPr/>
        </p:nvSpPr>
        <p:spPr>
          <a:xfrm>
            <a:off x="900000" y="1843200"/>
            <a:ext cx="6534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amor a Jesús se manifestará por el deseo de trabajar, como él trabajó, por la felicidad y elevación de la human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ángulo 1"/>
          <p:cNvSpPr/>
          <p:nvPr/>
        </p:nvSpPr>
        <p:spPr>
          <a:xfrm>
            <a:off x="611280" y="231444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s inspirará amor, ternura y simpatía por todas las criaturas que gozan del cuidado de nuestro Padre celesti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ángulo 1"/>
          <p:cNvSpPr/>
          <p:nvPr/>
        </p:nvSpPr>
        <p:spPr>
          <a:xfrm>
            <a:off x="1062000" y="1954080"/>
            <a:ext cx="595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 vida terrenal del Salvador no fue una vida de comodidad y devoción a sí m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ángulo 1"/>
          <p:cNvSpPr/>
          <p:nvPr/>
        </p:nvSpPr>
        <p:spPr>
          <a:xfrm>
            <a:off x="846000" y="2276640"/>
            <a:ext cx="660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ino que trabajó con un esfuerzo persistente, ardiente, infatigable por la salvación de la perdida human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ángulo 1"/>
          <p:cNvSpPr/>
          <p:nvPr/>
        </p:nvSpPr>
        <p:spPr>
          <a:xfrm>
            <a:off x="1512720" y="2170080"/>
            <a:ext cx="5362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os es la fuente de vida, luz y gozo para el unive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ángulo 1"/>
          <p:cNvSpPr/>
          <p:nvPr/>
        </p:nvSpPr>
        <p:spPr>
          <a:xfrm>
            <a:off x="1763640" y="1844640"/>
            <a:ext cx="53103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Desde el pesebre hasta el Calvario, siguió la senda de la abnegación y no procuró estar libre de tareas arduas, duros viajes y penosísimo cuidado y trabaj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ángulo 1"/>
          <p:cNvSpPr/>
          <p:nvPr/>
        </p:nvSpPr>
        <p:spPr>
          <a:xfrm>
            <a:off x="1403280" y="2276640"/>
            <a:ext cx="57420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ijo: 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El Hijo del hombre no vino para ser servido, sino para servir, y para dar su vida en rescate por muchos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Mateo 20: 2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ángulo 1"/>
          <p:cNvSpPr/>
          <p:nvPr/>
        </p:nvSpPr>
        <p:spPr>
          <a:xfrm>
            <a:off x="1692360" y="2098800"/>
            <a:ext cx="543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al fue el gran objeto de su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odo lo demás fue secundario y acceso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ángulo 1"/>
          <p:cNvSpPr/>
          <p:nvPr/>
        </p:nvSpPr>
        <p:spPr>
          <a:xfrm>
            <a:off x="1547640" y="2079720"/>
            <a:ext cx="567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Fue su comida y bebida hacer la voluntad de Dios y acabar su o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No había amor propio ni egoísmo en su trabaj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ángulo 1"/>
          <p:cNvSpPr/>
          <p:nvPr/>
        </p:nvSpPr>
        <p:spPr>
          <a:xfrm>
            <a:off x="1258920" y="1844640"/>
            <a:ext cx="583416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Así también los que son participantes de la gracia de Cristo están dispuestos a hacer cualquier sacrificio a fin de que aquellos por los cuales él murió tengan parte en el don celestia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ángulo 1"/>
          <p:cNvSpPr/>
          <p:nvPr/>
        </p:nvSpPr>
        <p:spPr>
          <a:xfrm>
            <a:off x="1763640" y="2068560"/>
            <a:ext cx="529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Harán cuanto puedan para que el mundo sea mejor por su permanencia en É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ángulo 1"/>
          <p:cNvSpPr/>
          <p:nvPr/>
        </p:nvSpPr>
        <p:spPr>
          <a:xfrm>
            <a:off x="1422360" y="2133720"/>
            <a:ext cx="588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te espíritu es el fruto seguro del alma verdaderamente convert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ángulo 1"/>
          <p:cNvSpPr/>
          <p:nvPr/>
        </p:nvSpPr>
        <p:spPr>
          <a:xfrm>
            <a:off x="720720" y="2133720"/>
            <a:ext cx="66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an pronto como viene uno a Cristo, nace en el corazón un vivo deseo de hacer conocer a otros cuán precioso amigo ha encontrado en Jesú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ángulo 1"/>
          <p:cNvSpPr/>
          <p:nvPr/>
        </p:nvSpPr>
        <p:spPr>
          <a:xfrm>
            <a:off x="1547640" y="2205000"/>
            <a:ext cx="574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 verdad salvadora y santificadora no puede permanecer encerrada en el coraz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ángulo 1"/>
          <p:cNvSpPr/>
          <p:nvPr/>
        </p:nvSpPr>
        <p:spPr>
          <a:xfrm>
            <a:off x="1062000" y="1844640"/>
            <a:ext cx="6389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i estamos revestidos de la justicia de Cristo y rebosamos de gozo por la presencia de su Espíritu, no podremos guardar silenc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ángulo 1"/>
          <p:cNvSpPr/>
          <p:nvPr/>
        </p:nvSpPr>
        <p:spPr>
          <a:xfrm>
            <a:off x="773280" y="1862280"/>
            <a:ext cx="653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mo los rayos de la luz del sol, como las corrientes de agua que brotan de un manantial vivo, las bendiciones descienden de él a todas sus criatu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ángulo 1"/>
          <p:cNvSpPr/>
          <p:nvPr/>
        </p:nvSpPr>
        <p:spPr>
          <a:xfrm>
            <a:off x="1547640" y="2205000"/>
            <a:ext cx="581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 hemos probado y visto que el Señor es bueno, tendremos algo que decir a o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ángulo 1"/>
          <p:cNvSpPr/>
          <p:nvPr/>
        </p:nvSpPr>
        <p:spPr>
          <a:xfrm>
            <a:off x="990720" y="2276640"/>
            <a:ext cx="6676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mo Felipe cuando encontró al Salvador, invitaremos a otros a ir a É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ángulo 1"/>
          <p:cNvSpPr/>
          <p:nvPr/>
        </p:nvSpPr>
        <p:spPr>
          <a:xfrm>
            <a:off x="755640" y="2133720"/>
            <a:ext cx="68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rocuraremos hacerles presente los atractivos de Cristo y las invisibles realidades del mundo venid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ángulo 1"/>
          <p:cNvSpPr/>
          <p:nvPr/>
        </p:nvSpPr>
        <p:spPr>
          <a:xfrm>
            <a:off x="1403280" y="1782720"/>
            <a:ext cx="590544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nhelaremos ardientemente seguir en la senda que recorrió Jesús y desearemos que los que nos rodean puedan ver al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Cordero de Dios que quita el pecado del mundo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San Juan 1: 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ángulo 1"/>
          <p:cNvSpPr/>
          <p:nvPr/>
        </p:nvSpPr>
        <p:spPr>
          <a:xfrm>
            <a:off x="1476360" y="2136600"/>
            <a:ext cx="574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el esfuerzo por hacer bien a otros se tornará en bendiciones para nosotros mis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ángulo 1"/>
          <p:cNvSpPr/>
          <p:nvPr/>
        </p:nvSpPr>
        <p:spPr>
          <a:xfrm>
            <a:off x="1494000" y="2060640"/>
            <a:ext cx="588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te fue el designio de Dios, al darnos una parte que hacer en el plan de la rede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ángulo 1"/>
          <p:cNvSpPr/>
          <p:nvPr/>
        </p:nvSpPr>
        <p:spPr>
          <a:xfrm>
            <a:off x="1116000" y="2133720"/>
            <a:ext cx="619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ha concedido a los hombres el privilegio de ser hechos participantes de la naturaleza divina y de difundir a su vez bendiciones para sus herman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ángulo 1"/>
          <p:cNvSpPr/>
          <p:nvPr/>
        </p:nvSpPr>
        <p:spPr>
          <a:xfrm>
            <a:off x="1547640" y="2060640"/>
            <a:ext cx="581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te es el honor más alto y el gozo más grande que Dios pueda conferir a los homb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ángulo 1"/>
          <p:cNvSpPr/>
          <p:nvPr/>
        </p:nvSpPr>
        <p:spPr>
          <a:xfrm>
            <a:off x="1206360" y="2421000"/>
            <a:ext cx="6245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os que así participan en trabajos de amor, se acercan más a su Cre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ángulo 1"/>
          <p:cNvSpPr/>
          <p:nvPr/>
        </p:nvSpPr>
        <p:spPr>
          <a:xfrm>
            <a:off x="1062000" y="1844640"/>
            <a:ext cx="6389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Dios podría haber encomendado el mensaje del Evangelio, y toda la obra del ministerio de amor, a los ángeles del cie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ángulo 1"/>
          <p:cNvSpPr/>
          <p:nvPr/>
        </p:nvSpPr>
        <p:spPr>
          <a:xfrm>
            <a:off x="1062000" y="2027160"/>
            <a:ext cx="624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dondequiera que la Vida de Dios esté en el corazón de los hombres, inundará a otros de amor y bendi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ángulo 1"/>
          <p:cNvSpPr/>
          <p:nvPr/>
        </p:nvSpPr>
        <p:spPr>
          <a:xfrm>
            <a:off x="1494000" y="2386080"/>
            <a:ext cx="574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odría haber empleado otros medios para llevar a cabo su ob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ángulo 1"/>
          <p:cNvSpPr/>
          <p:nvPr/>
        </p:nvSpPr>
        <p:spPr>
          <a:xfrm>
            <a:off x="1258920" y="2068560"/>
            <a:ext cx="619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ero en su amor infinito quiso hacernos colaboradores con él, con Cristo y con los ánge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ángulo 1"/>
          <p:cNvSpPr/>
          <p:nvPr/>
        </p:nvSpPr>
        <p:spPr>
          <a:xfrm>
            <a:off x="1116000" y="1916280"/>
            <a:ext cx="619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ara que participásemos de la bendición, del gozo y de la elevación espiritual que resultan de este abnegado ministe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ángulo 1"/>
          <p:cNvSpPr/>
          <p:nvPr/>
        </p:nvSpPr>
        <p:spPr>
          <a:xfrm>
            <a:off x="1476360" y="1916280"/>
            <a:ext cx="574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omos inducidos a simpatizar con Cristo, asociándonos a sus padec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ángulo 1"/>
          <p:cNvSpPr/>
          <p:nvPr/>
        </p:nvSpPr>
        <p:spPr>
          <a:xfrm>
            <a:off x="1133640" y="2243160"/>
            <a:ext cx="631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ada acto de sacrificio personal por el bien de otros robustece el espíritu de caridad en el corazó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ángulo 1"/>
          <p:cNvSpPr/>
          <p:nvPr/>
        </p:nvSpPr>
        <p:spPr>
          <a:xfrm>
            <a:off x="900000" y="2222640"/>
            <a:ext cx="64803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y lo une más fuertemente al Redentor del mundo, quien,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“siendo él rico, por vuestra causa se hizo pobre, para que vosotros, por medio de su pobreza, llegaseis a ser ric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2 Corintios 8: 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ángulo 1"/>
          <p:cNvSpPr/>
          <p:nvPr/>
        </p:nvSpPr>
        <p:spPr>
          <a:xfrm>
            <a:off x="1224000" y="1843200"/>
            <a:ext cx="6156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solamente cuando cumplimos así el designio que Dios tenía al crearnos, puede la vida ser una bendición para n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ángulo 1"/>
          <p:cNvSpPr/>
          <p:nvPr/>
        </p:nvSpPr>
        <p:spPr>
          <a:xfrm>
            <a:off x="900000" y="2205000"/>
            <a:ext cx="65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Si trabajáis como Cristo quiere que sus discípulos trabajen y ganen almas para él, sentiréis la necesidad de una experiencia más profun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ángulo 1"/>
          <p:cNvSpPr/>
          <p:nvPr/>
        </p:nvSpPr>
        <p:spPr>
          <a:xfrm>
            <a:off x="1278000" y="2060640"/>
            <a:ext cx="6102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de un conocimiento más grande de las cosas divinas y tendréis hambre y sed de justic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ángulo 1"/>
          <p:cNvSpPr/>
          <p:nvPr/>
        </p:nvSpPr>
        <p:spPr>
          <a:xfrm>
            <a:off x="1403280" y="1916280"/>
            <a:ext cx="5886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bogaréis con Dios y vuestra fe se robustecerá; y vuestra alma beberá en abundancia de la fuente de la sal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ángulo 1"/>
          <p:cNvSpPr/>
          <p:nvPr/>
        </p:nvSpPr>
        <p:spPr>
          <a:xfrm>
            <a:off x="1079640" y="2133720"/>
            <a:ext cx="622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gozo de nuestro Salvador se cifraba en levantar y redimir a los hombres caí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ángulo 1"/>
          <p:cNvSpPr/>
          <p:nvPr/>
        </p:nvSpPr>
        <p:spPr>
          <a:xfrm>
            <a:off x="1565280" y="2349360"/>
            <a:ext cx="567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encontrar oposición y pruebas os llevará a la Biblia y a la o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ángulo 1"/>
          <p:cNvSpPr/>
          <p:nvPr/>
        </p:nvSpPr>
        <p:spPr>
          <a:xfrm>
            <a:off x="1565280" y="2133720"/>
            <a:ext cx="581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receréis en la gracia y en el conocimiento de Cristo y adquiriréis una rica experi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ángulo 1"/>
          <p:cNvSpPr/>
          <p:nvPr/>
        </p:nvSpPr>
        <p:spPr>
          <a:xfrm>
            <a:off x="1494000" y="1989000"/>
            <a:ext cx="581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trabajo desinteresado por otros da al carácter profundidad, firmeza y amabilidad parecidas a las de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ángulo 1"/>
          <p:cNvSpPr/>
          <p:nvPr/>
        </p:nvSpPr>
        <p:spPr>
          <a:xfrm>
            <a:off x="1619280" y="2205000"/>
            <a:ext cx="545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Trae paz y felicidad al que lo reali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s aspiraciones se elev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ángulo 1"/>
          <p:cNvSpPr/>
          <p:nvPr/>
        </p:nvSpPr>
        <p:spPr>
          <a:xfrm>
            <a:off x="1403280" y="1989000"/>
            <a:ext cx="5886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No hay lugar para la pereza o el egoísmo. Los que de esta manera ejerzan las gracias cristianas crecerán y se harán fuertes para trabajar por D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ángulo 1"/>
          <p:cNvSpPr/>
          <p:nvPr/>
        </p:nvSpPr>
        <p:spPr>
          <a:xfrm>
            <a:off x="1152360" y="2276640"/>
            <a:ext cx="622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endrán claras percepciones espirituales, una fe firme y creciente y un acrecentado poder en la o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ángulo 1"/>
          <p:cNvSpPr/>
          <p:nvPr/>
        </p:nvSpPr>
        <p:spPr>
          <a:xfrm>
            <a:off x="1116000" y="2276640"/>
            <a:ext cx="62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Espíritu de Dios, que mueve su espíritu, pone en juego las sagradas armonías del alma, en respuesta al toque div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ángulo 1"/>
          <p:cNvSpPr/>
          <p:nvPr/>
        </p:nvSpPr>
        <p:spPr>
          <a:xfrm>
            <a:off x="1565280" y="2133720"/>
            <a:ext cx="567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os que así se consagran a un esfuerzo desinteresado por el bien de otros, están obrando ciertamente su propia salv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ángulo 1"/>
          <p:cNvSpPr/>
          <p:nvPr/>
        </p:nvSpPr>
        <p:spPr>
          <a:xfrm>
            <a:off x="1547640" y="1989000"/>
            <a:ext cx="574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único modo de crecer en la gracia es haciendo desinteresadamente la obra que Cristo ha puesto en nuestras ma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ángulo 1"/>
          <p:cNvSpPr/>
          <p:nvPr/>
        </p:nvSpPr>
        <p:spPr>
          <a:xfrm>
            <a:off x="1258920" y="1989000"/>
            <a:ext cx="603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mprometernos, en la medida de nuestra capacidad, a ayudar y beneficiar a los que necesitan la ayuda que podemos dar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ángulo 1"/>
          <p:cNvSpPr/>
          <p:nvPr/>
        </p:nvSpPr>
        <p:spPr>
          <a:xfrm>
            <a:off x="826920" y="2243160"/>
            <a:ext cx="648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ara lograr este fin no consideró su vida como cosa preciosa, mas sufrió la cruz menospreciando la ignomi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ángulo 1"/>
          <p:cNvSpPr/>
          <p:nvPr/>
        </p:nvSpPr>
        <p:spPr>
          <a:xfrm>
            <a:off x="1422360" y="1996920"/>
            <a:ext cx="5597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 fuerza se desarrolla con el ejercicio; la actividad es la misma condición de la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ángulo 1"/>
          <p:cNvSpPr/>
          <p:nvPr/>
        </p:nvSpPr>
        <p:spPr>
          <a:xfrm>
            <a:off x="684360" y="2492280"/>
            <a:ext cx="67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os que se esfuerzan en mantener una vida cristiana aceptando pasivamente las bendiciones que vienen por la gra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ángulo 1"/>
          <p:cNvSpPr/>
          <p:nvPr/>
        </p:nvSpPr>
        <p:spPr>
          <a:xfrm>
            <a:off x="1349280" y="1916280"/>
            <a:ext cx="5959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n hacer nada por Cristo, procuran simplemente vivir comiendo sin trabaj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ángulo 1"/>
          <p:cNvSpPr/>
          <p:nvPr/>
        </p:nvSpPr>
        <p:spPr>
          <a:xfrm>
            <a:off x="1258920" y="2133720"/>
            <a:ext cx="610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ero el resultado de esto, tanto en el mundo espiritual como en el temporal, es siempre la degeneración y decad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ángulo 1"/>
          <p:cNvSpPr/>
          <p:nvPr/>
        </p:nvSpPr>
        <p:spPr>
          <a:xfrm>
            <a:off x="1638360" y="2205000"/>
            <a:ext cx="552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hombre que rehusara ejercitar sus miembros pronto perdería todo el poder de usar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ángulo 1"/>
          <p:cNvSpPr/>
          <p:nvPr/>
        </p:nvSpPr>
        <p:spPr>
          <a:xfrm>
            <a:off x="1332000" y="2133720"/>
            <a:ext cx="603072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También el cristiano que no ejercita las facultades que Dios le ha dado, no solamente dejará de crecer en Cristo, sino que perderá la fuerza que tení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ángulo 1"/>
          <p:cNvSpPr/>
          <p:nvPr/>
        </p:nvSpPr>
        <p:spPr>
          <a:xfrm>
            <a:off x="936720" y="1843200"/>
            <a:ext cx="6299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 iglesia de Cristo es el agente elegido por Dios para la salvación de los hombres Su misión es extender el Evangelio por todo el mu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ángulo 1"/>
          <p:cNvSpPr/>
          <p:nvPr/>
        </p:nvSpPr>
        <p:spPr>
          <a:xfrm>
            <a:off x="1403280" y="1844640"/>
            <a:ext cx="590544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Y la obligación recae sobre todos los cristian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Cada uno de nosotros, hasta donde lo permitan sus talentos, tiene que cumplir con la comisión del Salvado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ángulo 1"/>
          <p:cNvSpPr/>
          <p:nvPr/>
        </p:nvSpPr>
        <p:spPr>
          <a:xfrm>
            <a:off x="1133640" y="2133720"/>
            <a:ext cx="6102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amor de Cristo que nos ha sido revelado nos hace deudores a cuantos no lo conoc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ángulo 1"/>
          <p:cNvSpPr/>
          <p:nvPr/>
        </p:nvSpPr>
        <p:spPr>
          <a:xfrm>
            <a:off x="1403280" y="2060640"/>
            <a:ext cx="581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os nos dio luz no sólo para nosotros sino para que la derramemos sobre ell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ángulo 1"/>
          <p:cNvSpPr/>
          <p:nvPr/>
        </p:nvSpPr>
        <p:spPr>
          <a:xfrm>
            <a:off x="917640" y="2492280"/>
            <a:ext cx="639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sí los ángeles están siempre empeñados en trabajar por la felicidad de 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ste es su goz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ángulo 1"/>
          <p:cNvSpPr/>
          <p:nvPr/>
        </p:nvSpPr>
        <p:spPr>
          <a:xfrm>
            <a:off x="1116000" y="2276640"/>
            <a:ext cx="64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Si los discípulos de Cristo comprendiesen su deber, habría mil heraldos del Evangelio a los gentiles donde hoy hay u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ángulo 1"/>
          <p:cNvSpPr/>
          <p:nvPr/>
        </p:nvSpPr>
        <p:spPr>
          <a:xfrm>
            <a:off x="1278000" y="2349360"/>
            <a:ext cx="6173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Y todos los que no pudieran dedicarse personalmente a la obra, la sostendrían con sus recursos, simpatías y or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ángulo 1"/>
          <p:cNvSpPr/>
          <p:nvPr/>
        </p:nvSpPr>
        <p:spPr>
          <a:xfrm>
            <a:off x="846000" y="2565360"/>
            <a:ext cx="667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habría de seguro más ardiente trabajo por las almas en los países cristia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ángulo 1"/>
          <p:cNvSpPr/>
          <p:nvPr/>
        </p:nvSpPr>
        <p:spPr>
          <a:xfrm>
            <a:off x="1332000" y="2205000"/>
            <a:ext cx="604836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No necesitamos ir a tierras de paganos, ni aún dejar el pequeño círculo del hogar, si es ahí a donde el deber nos llama a trabajar por Cris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ángulo 1"/>
          <p:cNvSpPr/>
          <p:nvPr/>
        </p:nvSpPr>
        <p:spPr>
          <a:xfrm>
            <a:off x="1258920" y="2276640"/>
            <a:ext cx="604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Podemos hacer esto en el seno del hogar, en la iglesia, entre aquellos con quienes nos asociamos y con quienes negocia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ángulo 1"/>
          <p:cNvSpPr/>
          <p:nvPr/>
        </p:nvSpPr>
        <p:spPr>
          <a:xfrm>
            <a:off x="1116000" y="2492280"/>
            <a:ext cx="63183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Nuestro Salvador pasó la mayor parte de su vida terrenal trabajando pacientemente en la carpintería de Nazare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ángulo 1"/>
          <p:cNvSpPr/>
          <p:nvPr/>
        </p:nvSpPr>
        <p:spPr>
          <a:xfrm>
            <a:off x="1476360" y="1868400"/>
            <a:ext cx="57420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Los ángeles ministradores servían al Señor de la vida mientras caminaba con campesinos y labradores, desconocido y no honrad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ángulo 1"/>
          <p:cNvSpPr/>
          <p:nvPr/>
        </p:nvSpPr>
        <p:spPr>
          <a:xfrm>
            <a:off x="1258920" y="2467080"/>
            <a:ext cx="610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estaba cumpliendo su misión tan fielmente mientras trabajaba en su humilde ofi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ángulo 1"/>
          <p:cNvSpPr/>
          <p:nvPr/>
        </p:nvSpPr>
        <p:spPr>
          <a:xfrm>
            <a:off x="1763640" y="2492280"/>
            <a:ext cx="531036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como cuando sanaba a los enfermos o caminaba sobre las olas tempestuosas del mar de Galile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ángulo 1"/>
          <p:cNvSpPr/>
          <p:nvPr/>
        </p:nvSpPr>
        <p:spPr>
          <a:xfrm>
            <a:off x="1062000" y="2421000"/>
            <a:ext cx="63183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Así, en los deberes más humildes y en las posiciones mas bajas de la vida, podemos andar y trabajar con Jesú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ángulo 1"/>
          <p:cNvSpPr/>
          <p:nvPr/>
        </p:nvSpPr>
        <p:spPr>
          <a:xfrm>
            <a:off x="826920" y="1882800"/>
            <a:ext cx="62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o que los corazones egoístas considerarían un servicio degradante, servir a los que son infel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ángulo 1"/>
          <p:cNvSpPr/>
          <p:nvPr/>
        </p:nvSpPr>
        <p:spPr>
          <a:xfrm>
            <a:off x="1476360" y="2038320"/>
            <a:ext cx="57596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l apóstol dice: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  "Cada uno permanezca para con Dios en aquel estado en que fue llamado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1 Corintios 7: 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ángulo 1"/>
          <p:cNvSpPr/>
          <p:nvPr/>
        </p:nvSpPr>
        <p:spPr>
          <a:xfrm>
            <a:off x="1278000" y="2205000"/>
            <a:ext cx="6173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hombre de negocios puede dirigir sus negocios de un modo que glorifique a su Maestro por su fidel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ángulo 1"/>
          <p:cNvSpPr/>
          <p:nvPr/>
        </p:nvSpPr>
        <p:spPr>
          <a:xfrm>
            <a:off x="1116000" y="1844640"/>
            <a:ext cx="6173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i es verdadero discípulo de Cristo, pondrá en práctica su religión en todo lo que haga y revelará a los hombres el espíritu de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ángulo 1"/>
          <p:cNvSpPr/>
          <p:nvPr/>
        </p:nvSpPr>
        <p:spPr>
          <a:xfrm>
            <a:off x="1278000" y="2060640"/>
            <a:ext cx="59580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El obrero manual puede ser un diligente y fiel representante de Aquel  que se ocupó en los trabajos humildes de la vida entre las colinas de Galile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ángulo 1"/>
          <p:cNvSpPr/>
          <p:nvPr/>
        </p:nvSpPr>
        <p:spPr>
          <a:xfrm>
            <a:off x="826920" y="2201760"/>
            <a:ext cx="644544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odo aquel que lleva el nombre de Cristo debe obrar de tal modo que los otros,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viendo sus buenas obras, sean inducidos a glorificar a su Creador y Reden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ángulo 1"/>
          <p:cNvSpPr/>
          <p:nvPr/>
        </p:nvSpPr>
        <p:spPr>
          <a:xfrm>
            <a:off x="1422360" y="2349360"/>
            <a:ext cx="58136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Muchos se excusan de poner sus dones al servicio de Cristo porque otros poseen mejores dotes y ventaja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ángulo 1"/>
          <p:cNvSpPr/>
          <p:nvPr/>
        </p:nvSpPr>
        <p:spPr>
          <a:xfrm>
            <a:off x="755640" y="2133720"/>
            <a:ext cx="669600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Ha prevalecido la opinión de que solamente los que están especialmente dotados tienen que consagrar sus habilidades al servicio de Di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ángulo 1"/>
          <p:cNvSpPr/>
          <p:nvPr/>
        </p:nvSpPr>
        <p:spPr>
          <a:xfrm>
            <a:off x="971640" y="2492280"/>
            <a:ext cx="64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uchos han llegado a la conclusión de que el talento se da sólo a cierta clase favorec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ángulo 1"/>
          <p:cNvSpPr/>
          <p:nvPr/>
        </p:nvSpPr>
        <p:spPr>
          <a:xfrm>
            <a:off x="1476360" y="2349360"/>
            <a:ext cx="566892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Calibri"/>
              </a:rPr>
              <a:t>Excluyendo a otros que, por supuesto, no son llamados a participar de las faenas ni de los galardon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ángulo 1"/>
          <p:cNvSpPr/>
          <p:nvPr/>
        </p:nvSpPr>
        <p:spPr>
          <a:xfrm>
            <a:off x="1440000" y="2084400"/>
            <a:ext cx="565308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Mas no lo indica así la parábola, cuando el Señor de la casa llamó a sus siervos, dio a cada uno su trabaj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ángulo 1"/>
          <p:cNvSpPr/>
          <p:nvPr/>
        </p:nvSpPr>
        <p:spPr>
          <a:xfrm>
            <a:off x="917640" y="2205000"/>
            <a:ext cx="639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bajo todo aspecto inferiores a ellos en carácter y jerarquía, es la obra de los ángeles exentos de pe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ángulo 1"/>
          <p:cNvSpPr/>
          <p:nvPr/>
        </p:nvSpPr>
        <p:spPr>
          <a:xfrm>
            <a:off x="900000" y="2492280"/>
            <a:ext cx="67676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 espíritu amoroso podemos ejecutar los deberes más humildes de la vida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"como para el Seño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Colosenses 3: 2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ángulo 1"/>
          <p:cNvSpPr/>
          <p:nvPr/>
        </p:nvSpPr>
        <p:spPr>
          <a:xfrm>
            <a:off x="1206360" y="2795760"/>
            <a:ext cx="610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i tenemos el amor de Dios en nuestro corazón, se manifestará en nuestra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ángulo 1"/>
          <p:cNvSpPr/>
          <p:nvPr/>
        </p:nvSpPr>
        <p:spPr>
          <a:xfrm>
            <a:off x="1278000" y="2421000"/>
            <a:ext cx="624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suave olor de Cristo nos rodeará y nuestra influencia elevará y beneficiará a o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ángulo 1"/>
          <p:cNvSpPr/>
          <p:nvPr/>
        </p:nvSpPr>
        <p:spPr>
          <a:xfrm>
            <a:off x="1332000" y="2421000"/>
            <a:ext cx="610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No debéis esperar mejores oportunidades o habilidades extraordinarias para empezar a trabajar por D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ángulo 1"/>
          <p:cNvSpPr/>
          <p:nvPr/>
        </p:nvSpPr>
        <p:spPr>
          <a:xfrm>
            <a:off x="1619280" y="2170080"/>
            <a:ext cx="56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necesitáis preocuparos en lo más mínimo de lo que el mundo dirá de v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ángulo 1"/>
          <p:cNvSpPr/>
          <p:nvPr/>
        </p:nvSpPr>
        <p:spPr>
          <a:xfrm>
            <a:off x="1206360" y="2492280"/>
            <a:ext cx="6029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i vuestra vida diaria es un testimonio de la pureza y sinceridad de vuestra 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ángulo 1"/>
          <p:cNvSpPr/>
          <p:nvPr/>
        </p:nvSpPr>
        <p:spPr>
          <a:xfrm>
            <a:off x="1133640" y="2421000"/>
            <a:ext cx="624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y los demás están convencidos de vuestros deseos de hacerles bien, vuestros esfuerzos no serán enteramente perdi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ángulo 1"/>
          <p:cNvSpPr/>
          <p:nvPr/>
        </p:nvSpPr>
        <p:spPr>
          <a:xfrm>
            <a:off x="1116000" y="2133720"/>
            <a:ext cx="633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os más humildes y más pobres de los discípulos de Jesús pueden ser una bendición para 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ángulo 1"/>
          <p:cNvSpPr/>
          <p:nvPr/>
        </p:nvSpPr>
        <p:spPr>
          <a:xfrm>
            <a:off x="846000" y="2349360"/>
            <a:ext cx="667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ueden no echar de ver que están haciendo algún bien especial, pero por su influencia inconsciente pueden derramar bendiciones abundantes que se extiendan y profundic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ángulo 1"/>
          <p:cNvSpPr/>
          <p:nvPr/>
        </p:nvSpPr>
        <p:spPr>
          <a:xfrm>
            <a:off x="1403280" y="1916280"/>
            <a:ext cx="588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cuyos benditos resultados no se conozcan hasta el día de la recompensa 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21:03:11Z</dcterms:created>
  <dc:creator>Orlando Rosales</dc:creator>
  <dc:description/>
  <dc:language>en-US</dc:language>
  <cp:lastModifiedBy>Karina de Martin</cp:lastModifiedBy>
  <dcterms:modified xsi:type="dcterms:W3CDTF">2017-03-13T16:34:27Z</dcterms:modified>
  <cp:revision>28</cp:revision>
  <dc:subject/>
  <dc:title>CAPÍTULO 9. El Gozo de la Colaboración </dc:title>
</cp:coreProperties>
</file>